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7D45-BD87-4E25-B74E-06C8B9EC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90D2-A9AF-4FE7-B0C7-476FD8B9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C892-0A2C-46F6-9E1E-CD076CF1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C36-361A-4E77-B3D0-367148BB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EB13-FEBA-4206-86B2-20B06DFD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736E-D156-4360-8D2B-E5ECE0BC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FF0-98AD-4751-9AB9-D41106C4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F8C9-F613-452C-8D9A-4E4A8161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79A-DC9F-42F0-9A6E-C4888899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E19-F566-447B-9E54-CC7DDF0E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7F30-C725-4C44-9562-7FF9D0B9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0F51-98D3-4034-BEED-4482C864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A40C-F896-43F0-A91E-95AD16313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bc.co.uk/iplayer/episode/b00rl4dl/Panorama_Are_the_Net_Police_Coming_for_You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365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bc.co.uk/iplayer/episode/b00rl4dl/Panorama_Are_the_Net_Police_Coming_for_You/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7640" y="333360"/>
            <a:ext cx="86756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though now a little old I strongly recommend you watch this clip again – do you agree with Billy Bragg when he says that the music industry is actually in good health and that it is just the record companies that are suffer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9:14:07Z</dcterms:created>
  <dc:creator>maninder singh</dc:creator>
  <dc:description/>
  <dc:language>en-US</dc:language>
  <cp:lastModifiedBy>maninder singh</cp:lastModifiedBy>
  <dcterms:modified xsi:type="dcterms:W3CDTF">2010-12-13T17:23:04Z</dcterms:modified>
  <cp:revision>2</cp:revision>
  <dc:subject/>
  <dc:title>http://www.bbc.co.uk/iplayer/episode/b00rl4dl/Panorama_Are_the_Net_Police_Coming_for_You/ </dc:title>
</cp:coreProperties>
</file>